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DA4-881F-4990-BE35-E433D59A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C2B-1E21-4B7D-91DA-B2E8AB58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B83-F153-4DC3-B71B-8C948C51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E3C-15CE-4503-A007-89A0C838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FA3-67C3-466E-9B08-C801A1A5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79D-AE8B-4153-AE92-09060A29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AEC-8436-4C56-ABF8-BC6B6313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9A9-C82C-402D-9E78-DC3482D3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494-7476-4B3D-B13C-50CAAE6B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9FE-78B1-4509-9306-862D29D5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7A4-06C3-4550-8A5F-3B26DEBD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CFD-DEDA-41B8-AC1F-C459165C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FC37-0EC2-4985-80D5-ADA7DAF507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80320" y="486900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32 – Heating Effect of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762120" y="1366920"/>
            <a:ext cx="792468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owerPoint file contains the Plenary for this chapter in </a:t>
            </a:r>
            <a:br>
              <a:rPr sz="1800"/>
            </a:br>
            <a:r>
              <a:rPr b="0" i="1" lang="en-GB" sz="1800" spc="-1" strike="noStrike">
                <a:solidFill>
                  <a:srgbClr val="3333cc"/>
                </a:solidFill>
                <a:latin typeface="Arial"/>
              </a:rPr>
              <a:t>Physics For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owerPoint of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well they have understood each section of work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o view a PowerPoint in ‘Full Screen’ mode, press Function key &lt;F5&gt;, 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(or right-click your mouse and select ‘Full Screen’).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Press &lt;Escape&gt; to go to Edit m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2 : Heating Effect of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981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plete this electricity b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88960" y="1628640"/>
            <a:ext cx="748836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rrent meter reading:  2355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vious meter reading:  2205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Units used: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ce per unit:  12p  (£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ergy cost: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unit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£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= £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nding charge:   £   53.00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        Total due:   £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88960" y="1628640"/>
            <a:ext cx="748836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rrent meter reading:  2355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vious meter reading:  2205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Units used: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ce per unit:  12p  (£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ergy cost: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unit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£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= £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nding charge:   £   53.00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        Total due:   £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62120" y="380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2 : Heating Effect of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62120" y="981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plete this electricity b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059280" y="572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229280" y="2392200"/>
            <a:ext cx="1695240" cy="40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68600" y="3637080"/>
            <a:ext cx="974880" cy="40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003640" y="3624120"/>
            <a:ext cx="863640" cy="40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0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588000" y="3627360"/>
            <a:ext cx="1224000" cy="40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8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696000" y="4905360"/>
            <a:ext cx="1440000" cy="40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33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5-01T16:17:32Z</dcterms:modified>
  <cp:revision>53</cp:revision>
  <dc:subject>Physics for You Support File</dc:subject>
  <dc:title>Physics for You</dc:title>
</cp:coreProperties>
</file>