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F12-1063-4919-A89C-BFFF5C8D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B85-4731-4A21-8ADD-5F78D77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6F5-D47F-412F-8081-E79CDED9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DF0-78AC-4A30-A281-98BBBC43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447-951D-46A1-BB41-58F3EA2A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B55-2374-484D-B6D0-FCDA869C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451-56DE-40DD-B9FC-99E8E403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48C-92A3-43C9-935B-AA72A6A6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263-7E8A-478E-A1AA-1FC6FD1E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B3A-CAD6-4849-8336-1D8DE165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7D1-E884-443B-805C-1B8B733A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62A-544E-4E5E-9FBE-B2ADA0DC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CE67-6BAD-462B-85EE-0EA91EA67C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18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4"/>
          <p:cNvSpPr/>
          <p:nvPr/>
        </p:nvSpPr>
        <p:spPr>
          <a:xfrm>
            <a:off x="762120" y="380880"/>
            <a:ext cx="81309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2 :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Heating Effect of Curr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755640" y="1600200"/>
            <a:ext cx="7772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1199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ting effect of current is used in kettles and filament l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199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calculate electr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199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the electrical energy used can be measured in ‘kilowatt-hours’ (kWh or ‘Units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199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calculate the cost of electr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762120" y="380880"/>
            <a:ext cx="81309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2 :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Heating Effect of Curr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55640" y="1600200"/>
            <a:ext cx="777240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1199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ucture of an electrical ring 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199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oltage and frequency of UK mains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199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fuses and circuit-breakers protect against over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199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earthing protects against shocks from metal ca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199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wire a three pin plug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5-01T16:06:15Z</dcterms:modified>
  <cp:revision>23</cp:revision>
  <dc:subject>Physics for You Support File</dc:subject>
  <dc:title>Physics for You</dc:title>
</cp:coreProperties>
</file>